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D34-59F0-4781-AEDF-72853F8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A5F-203D-46ED-A8D2-A2F2C412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78B-AA3A-4A89-8B82-D5EEB2B0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5E4-8B30-4CF3-8C39-DC50C59E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CE1-44DA-4973-825D-594689F8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8510-BD4A-44DA-8A06-7E5A464C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4E26-8629-4B85-AFA0-A39D4972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58C-AD77-471E-80D7-084A876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7C26-2C18-42AB-A03F-4E985A0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2484-FCF0-4A42-A7BE-7688ECC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FB6-52F9-4FD7-B977-CF41182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C96-A41A-4A17-AE20-099E4965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6E0E-3815-4EDA-B6EE-D0850106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3536-6C99-48E4-9268-59C972B0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341D-4A89-4E8C-8C42-79A754B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F5F3-693A-4DA1-99BB-4F75996E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1E3D-5C2E-4F5C-A677-2330D8CF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C179E-FF3D-4169-A134-2E5A099B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3153F-EB65-4FAA-B2BC-46B6198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A0E1D-DD88-4608-B3DD-1FAC7C87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EBB1D-9162-4058-A32D-2EB85CE7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F62E8-1BAA-4E71-8F07-6BE2292A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C3-F378-4994-AE66-015CEB0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4269D-D5E1-4225-9001-F68870B4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19DBD-54FB-44F4-B03E-1B40705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FAE3A-570F-4784-884C-2F46DAC7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1504D-0709-49C5-8901-2DB44BF4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0FD77-44C1-44DC-A7D8-D1809AE4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A6780-CDE7-4293-A8B3-AA0F8586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E57EB-14F3-4304-8A1F-D4C876D5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4748-9697-4862-BCC4-3D63C24A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C2D5-3255-475A-B389-C71CF48F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B132-3F6D-4F09-9456-EE63D72A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306-E4E1-4498-855F-F5C50D23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84A8-C21F-4F5F-ACE5-1F893A6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376A-43FC-4EA6-819A-CE43C3B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7CBCE-CA72-405C-A94F-145DCC0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98EC-3259-4BF9-A7BC-E1ABFE4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4A73-2903-4E2B-9396-EDC28503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112F-ECE8-4E68-AACC-A67FE49A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B684-1951-42E9-BB49-9470A162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E2D9-12BC-45F2-9F2A-CCEA909E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20242-EBE2-452C-9571-4F3AA6B3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657-AF96-4695-BCFA-25219238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2C4-CE37-4246-A9C7-69AD53D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091-DC9F-4F66-BA85-D72D6DE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B74-5E29-47DA-8D01-4A9AEF8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A09-D0D3-4CCD-812F-8A084C1A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DCBC-CE00-4727-B711-3A7B0A6CD8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E11-500A-4822-A129-0D539F395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9FCB-1671-45BA-8FBC-4AC86B2525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CC7E-3937-44AC-8AC8-9B70F0036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pperplate Gothic Bold"/>
              </a:rPr>
              <a:t>Motivation</a:t>
            </a: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5" descr="lion-zebra"/>
          <p:cNvPicPr/>
          <p:nvPr/>
        </p:nvPicPr>
        <p:blipFill>
          <a:blip r:embed="rId1"/>
          <a:stretch/>
        </p:blipFill>
        <p:spPr>
          <a:xfrm>
            <a:off x="1447920" y="1752480"/>
            <a:ext cx="60958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is it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ctors affecting the initiation, direction, intensity, and persistence of behavi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ources of motivation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iologic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motional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ognitive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ocial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ories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5" descr="engine"/>
          <p:cNvPicPr/>
          <p:nvPr/>
        </p:nvPicPr>
        <p:blipFill>
          <a:blip r:embed="rId1"/>
          <a:stretch/>
        </p:blipFill>
        <p:spPr>
          <a:xfrm>
            <a:off x="5029200" y="3886200"/>
            <a:ext cx="34290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424456"/>
                </a:solidFill>
                <a:uFillTx/>
                <a:latin typeface="Georgia"/>
              </a:rPr>
              <a:t>Instinct Theory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5998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Instinct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= automatic, involuntary, and unlearned behavior patterns that are consistently ‘released’ in response to certain stimul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List of instincts grew too long—they started to become </a:t>
            </a:r>
            <a:r>
              <a:rPr b="0" i="1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descriptions</a:t>
            </a: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 rather than </a:t>
            </a:r>
            <a:r>
              <a:rPr b="0" i="1" lang="en-US" sz="2000" spc="-1" strike="noStrike" u="sng">
                <a:solidFill>
                  <a:srgbClr val="438086"/>
                </a:solidFill>
                <a:uFillTx/>
                <a:latin typeface="Georgia"/>
              </a:rPr>
              <a:t>explanation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nstinct theory cannot accommodate the role of learning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1" name="Picture 5" descr="gja0092l"/>
          <p:cNvPicPr/>
          <p:nvPr/>
        </p:nvPicPr>
        <p:blipFill>
          <a:blip r:embed="rId1"/>
          <a:stretch/>
        </p:blipFill>
        <p:spPr>
          <a:xfrm>
            <a:off x="5257800" y="2438280"/>
            <a:ext cx="3457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24456"/>
                </a:solidFill>
                <a:latin typeface="Trebuchet MS"/>
              </a:rPr>
              <a:t>Drive-Reduction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0720"/>
            <a:ext cx="7772400" cy="32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Homeostasi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—tendency of the body to return to, and remain in, a more balanced sta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.R.T.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Motivation is tied to imbalances in Homeost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: Furnac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Ex: Feeling hungry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4" name="Picture 4" descr="MyersPsy8e_fig"/>
          <p:cNvPicPr/>
          <p:nvPr/>
        </p:nvPicPr>
        <p:blipFill>
          <a:blip r:embed="rId1"/>
          <a:stretch/>
        </p:blipFill>
        <p:spPr>
          <a:xfrm>
            <a:off x="533520" y="5410080"/>
            <a:ext cx="82310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ousal &amp; Incentive Theor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rousal = people act to maintain a personal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optimal arousal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eking excitement when bored &amp; relaxation when overexcited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centive 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havior is goal directed, gaining positive incentives and avoiding negative on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ernal stimuli motivate our behavi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entives – Pul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ives - Pu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gnitive Theo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7760" y="1600200"/>
            <a:ext cx="5638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rinsic Motivation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ities or behaviors that reduce biological needs or help us obtain incentives or external rewar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mmission; airline miles; extra credi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trinsic Motiva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tivities or behaviors that are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personall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warding or they fulfill our beliefs or expectation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rathons; hobbies 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0" name="Picture 5" descr="London_marathon_runner_wdi45992"/>
          <p:cNvPicPr/>
          <p:nvPr/>
        </p:nvPicPr>
        <p:blipFill>
          <a:blip r:embed="rId1"/>
          <a:stretch/>
        </p:blipFill>
        <p:spPr>
          <a:xfrm>
            <a:off x="304920" y="22096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5" descr="maslow"/>
          <p:cNvPicPr/>
          <p:nvPr/>
        </p:nvPicPr>
        <p:blipFill>
          <a:blip r:embed="rId1"/>
          <a:stretch/>
        </p:blipFill>
        <p:spPr>
          <a:xfrm>
            <a:off x="2897280" y="1752480"/>
            <a:ext cx="5484600" cy="48006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424456"/>
                </a:solidFill>
                <a:uFillTx/>
                <a:latin typeface="Rockwell Extra Bold"/>
              </a:rPr>
              <a:t>Hierarchy of Need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533520" y="2209680"/>
            <a:ext cx="25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Biological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-Social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2:58:47Z</dcterms:created>
  <dc:creator>tmacleod</dc:creator>
  <dc:description/>
  <dc:language>en-US</dc:language>
  <cp:lastModifiedBy>hberndt</cp:lastModifiedBy>
  <dcterms:modified xsi:type="dcterms:W3CDTF">2009-04-16T17:35:54Z</dcterms:modified>
  <cp:revision>13</cp:revision>
  <dc:subject/>
  <dc:title>Motivation </dc:title>
</cp:coreProperties>
</file>